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BCD-20F1-4334-8903-EB7A8482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472-F051-4791-9E81-E1EA7156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BB3-D693-4991-B715-A2F80D6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7A2-074C-40D4-BB2A-495BDD32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8F2-2FE1-4357-AFAF-DFD266C0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BF3D-402C-427D-9090-4DD18D4F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D06-427A-44BE-84DB-6AF268D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9443-B7B3-45CD-9B6B-AB033BD6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794-F70B-4F7D-A0FE-DD6B8C7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EC0-9153-4E3D-9AC9-359BE090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61E0-F7C7-488B-B4FD-C4A21CC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E43-9305-4BF4-BCA3-A31761AF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7A41-CDE1-40E4-AA7D-76C187E8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DE5-61CB-4687-89AF-F07A323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691-5729-41CF-86BF-8FBC9C41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99F4-3B58-4988-BD86-5445D798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178-1828-48AB-899F-DB9FD4A5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F7A1-90CE-419F-8247-09EA1AF7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89BB-5CB5-4BDB-93EF-D4800A85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03FC-3A78-435F-99ED-0F56679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DC17E-F112-4C56-ADA4-0F6D3376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C0AE-0C09-4604-BA98-D61F54F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C9-2489-418C-AEBB-7A66CFF2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1337-14B9-4579-82B6-AC17A5B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0974-BA47-48DA-8621-0F71CA3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6359-A498-4F24-8E96-AD70323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1018-11DB-4E83-805C-65922A8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C707-FB2C-46EE-B588-CA64E23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5CA4-DE56-416E-813E-3D426A2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0D0D-E348-4F9E-A2F7-75429E64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8A78-34B6-4DC3-8D34-08CE2EBA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6B42-3E79-48F5-8DB9-071AEBF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B58A-D8E6-4005-A748-4C67423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C2E-D441-419C-8309-6BAB727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58D1-0CFD-478C-B362-31ACFFC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925C-D5BE-4098-8D5C-A3449E2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C46B-C8D5-4753-9D26-9C34A562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26A0-58F7-49AF-AFBB-36931A9F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267E-8BBC-46AA-B98F-682A4DED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B339-6F6F-403D-ACF3-AAD2E06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1B03-4062-41EC-B113-DD63D9B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4B03-65AC-4D23-A941-23F79E88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56CC-7F55-4F46-AB6A-4B8C928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4515-3CB5-404F-B5FB-0DCB79FA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5BC-0C7D-4C47-B6AC-56A5854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343B-FBB8-4022-B748-945966E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2B90-A5CE-4BD2-93E2-0A88D15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B3ED-57D2-4516-BE47-36ADC8E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5340-819B-4CE6-8098-2512EBC5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51CE-CD34-420F-8B13-D230480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F4F0-FF9C-40DE-B58F-75BB3CE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0D0DA-985A-486F-ADD7-D6DBECF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51FA-82AC-42C5-8091-B91CE97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5C91-A8C2-41F9-BBCF-5C8F7EB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2853-0D5E-4DD9-BBA5-8A1F939B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A60-EFD4-4B18-A361-0672EB8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1004-9FC5-4041-8D9F-0E71C70F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A564-610E-45A7-B503-34034D94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D800-4ED3-4309-8D6D-B445310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A536-6E40-4420-A77C-80D517F6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AC4E-A886-44D3-B69B-10CD402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079D-9602-4CED-B9FB-67C7813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A838-B09B-44F0-BFE6-3A3B447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E9483-0017-41E8-A35B-9C1D915C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1C1C-5CA5-4B11-97F3-054948F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EF64-4BB5-45E0-808C-13ABED9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A30-250A-4690-B6ED-3C10430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3B83-8439-4775-A518-1AACE3E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903C-571B-443B-A397-89A6B46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B747-FEB6-4024-9156-DA598999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0C1A1-4B47-4CD8-998C-2C73BD8B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B61E2-BF19-4465-BDA6-242C5B38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49C4-8363-43D0-B3E0-AE46DB6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1A0E-3038-44A7-A079-4C528B2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EE04-1330-4407-B93A-2158406F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7A75-6D3C-4BF0-AB13-4C44C01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B655C-EEE1-45B0-B2E6-5EFDF524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F43-2365-4FAF-B574-F598375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1E3A-715A-4EBA-BF95-EEE6031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D7BF-49EC-43F5-A65E-09EDD23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C048-F82A-4A23-94FC-F88D20E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83DA-8641-4CC8-A7EC-0BAD9BCD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8C4D-CD3C-43F7-9A03-FAF3A511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9883-0721-4BF8-AA8D-F33021D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90F6-A0F1-40B6-BAE1-2EA8615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9C02-AA69-4677-99D0-8853AB8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0579-5962-4F74-B5FD-BF4B5E0A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646B-9B72-4141-91E0-F166C3B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7D1-F6BD-4AF3-8E7B-3059237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E57F-8B72-4BEA-B601-D05D1A3C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82798-2662-4272-A6F4-DA8541E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7B77-9599-448D-B0EC-A258D01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CFC3-9F8D-4C03-942A-05AD95F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7E79-57F5-441B-B42D-F047CF5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C3068-2793-4637-93BF-14F079E6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3704-1206-4BD3-9BF8-12B90552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2E77-0129-42D7-B10C-EC7CE4B8B4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1F8C-4C32-4A1A-81E0-46842674F9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AE3-AB0F-480E-A953-BC829AD16D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B9E-F03E-4410-B695-79C9080BF9F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C34-A212-4BCE-ACE8-4B7416C651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CA1-4848-4B67-B86A-AD0BD11AA3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423-F58D-4594-A32B-1759CAB41D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F6EC-AA90-4DE8-93FF-77111423EF9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4.2 Physical Properti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49" name="Picture 6" descr="chemicals_in_flasks1"/>
          <p:cNvPicPr/>
          <p:nvPr/>
        </p:nvPicPr>
        <p:blipFill>
          <a:blip r:embed="rId1"/>
          <a:stretch/>
        </p:blipFill>
        <p:spPr>
          <a:xfrm>
            <a:off x="1825560" y="1600200"/>
            <a:ext cx="549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hysical Properties of Mat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can be described based on observed and measured trai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re are two types of physical properti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alitat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52" name="Picture 14" descr="9093_kettle_new"/>
          <p:cNvPicPr/>
          <p:nvPr/>
        </p:nvPicPr>
        <p:blipFill>
          <a:blip r:embed="rId1"/>
          <a:stretch/>
        </p:blipFill>
        <p:spPr>
          <a:xfrm>
            <a:off x="28195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7"/>
          <p:cNvSpPr/>
          <p:nvPr/>
        </p:nvSpPr>
        <p:spPr>
          <a:xfrm>
            <a:off x="304920" y="3886200"/>
            <a:ext cx="2590560" cy="914400"/>
          </a:xfrm>
          <a:prstGeom prst="cloudCallout">
            <a:avLst>
              <a:gd name="adj1" fmla="val 65625"/>
              <a:gd name="adj2" fmla="val 126564"/>
            </a:avLst>
          </a:prstGeom>
          <a:solidFill>
            <a:srgbClr val="8f8be1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ighs 1 k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>
            <a:off x="5867280" y="3733920"/>
            <a:ext cx="2590920" cy="914400"/>
          </a:xfrm>
          <a:prstGeom prst="cloudCallout">
            <a:avLst>
              <a:gd name="adj1" fmla="val -76962"/>
              <a:gd name="adj2" fmla="val 136458"/>
            </a:avLst>
          </a:prstGeom>
          <a:solidFill>
            <a:srgbClr val="ffff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hiny materia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533c"/>
                </a:solidFill>
                <a:uFillTx/>
                <a:latin typeface="Arial"/>
              </a:rPr>
              <a:t>Qualitative Physical Properties: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Properties we can 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observe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with our senses (sight, touch, smell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Observed and described without measurement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2286000"/>
            <a:ext cx="8007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33c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d2533c"/>
                </a:solidFill>
                <a:latin typeface="Arial"/>
              </a:rPr>
              <a:t> - solid, liquid, ga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Colour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red, blue, green… no colour = colourl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Odour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smell: sweet, pungent, mould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Clarity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transparent, translucent, opaq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rough, smooth, grit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Lust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the ability of a material to reflect light: dull or shin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Ductility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al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…can be pulled into a wi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alleabl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al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…can be flattened: soft, flexible, har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2533c"/>
                </a:solidFill>
                <a:latin typeface="Arial"/>
              </a:rPr>
              <a:t>1. Properties of states of matter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447920"/>
          <a:ext cx="8229600" cy="4876560"/>
        </p:xfrm>
        <a:graphic>
          <a:graphicData uri="http://schemas.openxmlformats.org/drawingml/2006/table">
            <a:tbl>
              <a:tblPr/>
              <a:tblGrid>
                <a:gridCol w="2257560"/>
                <a:gridCol w="1820880"/>
                <a:gridCol w="1893600"/>
                <a:gridCol w="2257560"/>
              </a:tblGrid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olid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iquid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same as container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same as container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Definit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Definit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fills entire container)</a:t>
                      </a:r>
                      <a:r>
                        <a:rPr b="0" lang="fr-CA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bility to flow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bility to be compressed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ligh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ligh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Grea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olume change with heating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mal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funny-cat-inside-vase-liquid"/>
          <p:cNvPicPr/>
          <p:nvPr/>
        </p:nvPicPr>
        <p:blipFill>
          <a:blip r:embed="rId1"/>
          <a:srcRect l="0" t="0" r="0" b="9326"/>
          <a:stretch/>
        </p:blipFill>
        <p:spPr>
          <a:xfrm>
            <a:off x="533520" y="579600"/>
            <a:ext cx="807696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31:18Z</dcterms:created>
  <dc:creator>OCDSB</dc:creator>
  <dc:description/>
  <dc:language>en-US</dc:language>
  <cp:lastModifiedBy>Katie</cp:lastModifiedBy>
  <dcterms:modified xsi:type="dcterms:W3CDTF">2014-10-01T19:22:52Z</dcterms:modified>
  <cp:revision>50</cp:revision>
  <dc:subject/>
  <dc:title>Properties of Matter</dc:title>
</cp:coreProperties>
</file>